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2538-3087-48AD-B800-D8F940497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5BEA-72FE-4C21-849D-15F0E00C2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E3E9-CBA7-4D07-85FA-B21D2D5AF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DBBE-200F-4BC0-B5E2-2E6DC4C28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CAB6-4D35-4B8D-AABC-AD651C611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DAA8-4D63-4F22-8500-4139F1BDB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8420-78D8-48AD-96FD-090342F42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D8A1-6DBC-4781-8B5B-6386D1532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C5FD-E38E-430F-ABA9-929A7BDDD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E4D1-4C6A-4ABF-8EA2-8AC88EC14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BE14-F071-4F02-9E5B-18507C653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D692-4FE5-485E-84D9-9BAE3D7B1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25F8-9893-4866-902B-9CF87E805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8ADF-EB01-46FD-938C-C795B2AA6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3198-7218-477B-80C4-47E52F355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AB82-101B-4100-92DD-85EAB8224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0E5B-85F8-4218-99D6-22E659368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32B1-0E25-426C-B1B9-26FF1A2A3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118C-9236-47D8-91C0-5F26F4697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F5B6-D30A-40EA-B4C9-DB071762B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9427-181A-49FE-AC62-F9D8B5930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66F1-0834-4B70-97DB-01B75DC5C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A37D-686C-46A8-BA9A-CF5DA6219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D9AC-7015-4546-9721-5D3BBB4B5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BE6E-8959-4249-993C-21EA0910D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09C5-73CA-4FA4-AB12-902FD308B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4A4A-E61A-4920-9730-82AA9FB1C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2E3F-F48A-4810-8700-68C1B453B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E09C-878B-44E0-936F-0957A5338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4C5A-774E-4A74-B5C2-BE8664CE9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2ABB-943B-4303-AAA5-5E97EC2CF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13C1-DE84-4BCD-BC5B-DB6B347A5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F844-7518-4521-852E-726F6F77D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F962-C797-4C78-AAA3-3FBC39F85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20C1-FDBA-4FD6-95D9-4595E2B2E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C79E-9269-4A89-9D36-66CD46303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A465-05EE-48DB-92D5-B10E2D0E4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ABBB-DFD9-4FB7-9F0F-D7DBB846F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AD18-AB62-4580-A079-4CCB0F3B8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9407-61A2-4F78-95A4-B94A52728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2DC1-CE9A-49CA-9506-5C008FA95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3C2E-D75E-434A-9739-8B0B4D36E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2B71-A7D8-4CB0-AC24-7DBC5FA8F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6E86-D10D-4865-9A50-393C8EA1B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C4E9-49C5-4DDA-B0CB-30F639EA2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505B-ED34-40A2-B4B2-E9BC5D4ED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C916-48EB-4A7B-92CA-B30E66FE4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6588-0BDA-48FC-AFAE-0BB5AEEEF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13C1-2E36-4624-962E-C91307AF2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1992-958C-45BD-83A1-5331DF98E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C744-1976-418A-AAD5-09E302284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E6BF-5A08-4432-867C-A8389C0E0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8E94-5003-4B48-A9C3-75686A508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F6FF-F91E-4AEC-A5D9-55B53B3DF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8491-DE3C-4C1E-AA4B-3B073C44B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436A-B376-48AB-9CBA-DBE23397F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E13D-7BE5-4379-9F2C-C0CCBD9BE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7421-5AF0-4562-9341-05C519B04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6152-8719-43E2-BE13-1B17181F5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6267-4546-414D-8A8A-A2D1211EB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E0CB-C0C9-4A4B-A653-3E9CA88D6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CA8A-6039-4765-A468-C20F951AF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1F47-06DD-4514-98F6-6043D7BCD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13A3-DF12-49FA-B1D7-CBDBC5D7D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5A8C-2011-4DE5-AD9A-50E1ECE08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A866-62F5-46C3-8F08-7B80C24AB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87BB-4C72-495B-B3B1-CC108C30A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8E03-4183-437F-8F5A-76A8D81F8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A731-DFE2-48F6-9644-75984880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422B-992A-4719-AF53-F7C62B37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821-0EBC-4FA7-891D-CB6CE49E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603-3B4C-4B1A-B112-01ACD96A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BB816-3444-436D-8B19-C562E6F5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0EACB-506E-4F62-9A83-BECA5BA9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880BF-9B88-4395-8765-C7D1BBB8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BBDED-95A7-45CB-BA16-4394AA76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F7DA6-4B23-49EE-8AE7-CEC3CEE0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DCA48-8351-4C0D-BE70-705B18FF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93F02-61A0-4B19-9338-F982A979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8FCC-C482-4BB5-9361-42A14847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713C9-DE90-4A61-AE71-7888B8AA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8CC92-D585-4693-B231-C437D1AA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0A847-6A32-44F6-8831-B718F070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CBE5D-BE24-4F86-8F1E-C157074C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851B4-0E4F-4D9E-94CF-E388826A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1884-40E2-4B31-B2B3-075638A7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CC1-ABDB-49E1-ADAB-40CEFC5B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658B-E2A0-437C-9A2E-8D5BE618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308F-ABFE-48E6-8FC1-4175D4B0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3A44-E4A2-4691-B444-5554A013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7042-486B-4F73-B85F-105004A4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FA58-1F76-47B3-A1AA-4BE48694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1C40-1E4D-4AD0-A136-4DC8BD77092C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632F-3B31-4668-8624-C1F19C2C5D2A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learning system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539640" y="3645000"/>
            <a:ext cx="784872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Dr. György Varga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First published: 2010-02-28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I. About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971640" y="1844640"/>
            <a:ext cx="70866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Controlling (cybernetic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eedback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3 Analys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4 Features of systems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5 Mathematic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6 Problems with the general known view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7 What we are miss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8 Technical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9 Summa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971640" y="1844640"/>
            <a:ext cx="720072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ybernetics: interdisciplinary resear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1944, mathematics, biolology, technical control, socie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orbert Wiener, Claude Shann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ost important result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theorie of contro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feedback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formation theor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phase diagra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71640" y="1844640"/>
            <a:ext cx="70866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i say, what you have to d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Loop-contro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comparing „is” and „should be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118728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203640" y="2565360"/>
            <a:ext cx="1439640" cy="93492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507672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3492360" y="44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1835280" y="47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>
            <a:off x="5435640" y="47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608472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AutoShape 16"/>
          <p:cNvSpPr/>
          <p:nvPr/>
        </p:nvSpPr>
        <p:spPr>
          <a:xfrm>
            <a:off x="4356000" y="544500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19"/>
          <p:cNvSpPr/>
          <p:nvPr/>
        </p:nvSpPr>
        <p:spPr>
          <a:xfrm flipH="1">
            <a:off x="5435280" y="573408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Line 20"/>
          <p:cNvSpPr/>
          <p:nvPr/>
        </p:nvSpPr>
        <p:spPr>
          <a:xfrm flipH="1">
            <a:off x="2700000" y="573408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Line 21"/>
          <p:cNvSpPr/>
          <p:nvPr/>
        </p:nvSpPr>
        <p:spPr>
          <a:xfrm flipV="1">
            <a:off x="2700360" y="486864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Oval 22"/>
          <p:cNvSpPr/>
          <p:nvPr/>
        </p:nvSpPr>
        <p:spPr>
          <a:xfrm>
            <a:off x="2627280" y="472428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Line 23"/>
          <p:cNvSpPr/>
          <p:nvPr/>
        </p:nvSpPr>
        <p:spPr>
          <a:xfrm>
            <a:off x="2411280" y="45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Line 24"/>
          <p:cNvSpPr/>
          <p:nvPr/>
        </p:nvSpPr>
        <p:spPr>
          <a:xfrm flipV="1">
            <a:off x="2484360" y="4508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Line 25"/>
          <p:cNvSpPr/>
          <p:nvPr/>
        </p:nvSpPr>
        <p:spPr>
          <a:xfrm flipH="1">
            <a:off x="2842920" y="49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53964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Loop-controlli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finer diagra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3635280" y="306864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 flipV="1">
            <a:off x="4356000" y="4437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5651640" y="3357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6804000" y="335772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AutoShape 13"/>
          <p:cNvSpPr/>
          <p:nvPr/>
        </p:nvSpPr>
        <p:spPr>
          <a:xfrm>
            <a:off x="234000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 flipH="1">
            <a:off x="6084720" y="4292640"/>
            <a:ext cx="7192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4284720" y="429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4643280" y="450864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4716360" y="443664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AutoShape 21"/>
          <p:cNvSpPr/>
          <p:nvPr/>
        </p:nvSpPr>
        <p:spPr>
          <a:xfrm>
            <a:off x="493236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asur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6012000" y="2708280"/>
            <a:ext cx="1873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valu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>
            <a:off x="4572000" y="2565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4427640" y="43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4572000" y="256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ru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4284720" y="400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Line 27"/>
          <p:cNvSpPr/>
          <p:nvPr/>
        </p:nvSpPr>
        <p:spPr>
          <a:xfrm flipH="1">
            <a:off x="3492000" y="4365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1908000" y="335772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Line 30"/>
          <p:cNvSpPr/>
          <p:nvPr/>
        </p:nvSpPr>
        <p:spPr>
          <a:xfrm>
            <a:off x="2627280" y="4941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Line 31"/>
          <p:cNvSpPr/>
          <p:nvPr/>
        </p:nvSpPr>
        <p:spPr>
          <a:xfrm>
            <a:off x="190800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3348000" y="4581360"/>
            <a:ext cx="1009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hou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Line 33"/>
          <p:cNvSpPr/>
          <p:nvPr/>
        </p:nvSpPr>
        <p:spPr>
          <a:xfrm flipV="1">
            <a:off x="2627280" y="45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Line 34"/>
          <p:cNvSpPr/>
          <p:nvPr/>
        </p:nvSpPr>
        <p:spPr>
          <a:xfrm>
            <a:off x="1908000" y="4221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Text Box 35"/>
          <p:cNvSpPr/>
          <p:nvPr/>
        </p:nvSpPr>
        <p:spPr>
          <a:xfrm>
            <a:off x="3419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Get a mode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ode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giving a simpler view of realitiy – but proper for out go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Line 12"/>
          <p:cNvSpPr/>
          <p:nvPr/>
        </p:nvSpPr>
        <p:spPr>
          <a:xfrm flipH="1">
            <a:off x="2773080" y="3933720"/>
            <a:ext cx="165420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971640" y="47973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estsignal, superposition, test pattern, test ser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A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keep constant outpu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Line 11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Line 12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AutoShape 13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Line 16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Oval 17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system and it’s model is known, there is no changing parameter in the mod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B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B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some paramters of controlled system can be chang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system and it’s model are known, at least one parameter of the controlled system can be changed by the 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 flipV="1">
            <a:off x="4643280" y="3284280"/>
            <a:ext cx="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2"/>
          <p:cNvGraphicFramePr/>
          <p:nvPr/>
        </p:nvGraphicFramePr>
        <p:xfrm>
          <a:off x="46836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- 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adaptiv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AutoShape 10"/>
          <p:cNvSpPr/>
          <p:nvPr/>
        </p:nvSpPr>
        <p:spPr>
          <a:xfrm>
            <a:off x="442764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Line 12"/>
          <p:cNvSpPr/>
          <p:nvPr/>
        </p:nvSpPr>
        <p:spPr>
          <a:xfrm>
            <a:off x="5076720" y="4221000"/>
            <a:ext cx="0" cy="216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 flipV="1">
            <a:off x="2771640" y="3068280"/>
            <a:ext cx="1800" cy="1152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system and is’s model are known –  features of the controlled systems may change, this change will be recognised and given to the mod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>
            <a:off x="3276720" y="2997360"/>
            <a:ext cx="0" cy="1008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>
            <a:off x="3276720" y="4005360"/>
            <a:ext cx="115092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AutoShape 22"/>
          <p:cNvSpPr/>
          <p:nvPr/>
        </p:nvSpPr>
        <p:spPr>
          <a:xfrm>
            <a:off x="2268360" y="414972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Line 23"/>
          <p:cNvSpPr/>
          <p:nvPr/>
        </p:nvSpPr>
        <p:spPr>
          <a:xfrm flipH="1">
            <a:off x="3419280" y="4437000"/>
            <a:ext cx="1657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D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only the controlled system can be chang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AutoShape 10"/>
          <p:cNvSpPr/>
          <p:nvPr/>
        </p:nvSpPr>
        <p:spPr>
          <a:xfrm>
            <a:off x="392436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Line 11"/>
          <p:cNvSpPr/>
          <p:nvPr/>
        </p:nvSpPr>
        <p:spPr>
          <a:xfrm flipH="1">
            <a:off x="5003640" y="3933720"/>
            <a:ext cx="11541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Line 13"/>
          <p:cNvSpPr/>
          <p:nvPr/>
        </p:nvSpPr>
        <p:spPr>
          <a:xfrm flipV="1">
            <a:off x="4643280" y="3284280"/>
            <a:ext cx="0" cy="431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e are unable to change the inputs, we can change the controlled system onl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Line 19"/>
          <p:cNvSpPr/>
          <p:nvPr/>
        </p:nvSpPr>
        <p:spPr>
          <a:xfrm>
            <a:off x="2050920" y="2997360"/>
            <a:ext cx="0" cy="93636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>
            <a:off x="2050920" y="3933720"/>
            <a:ext cx="18003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900000" y="5516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xampl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town water supply, aircraf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Ques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hy is so, that no robot pilot will be used by airliners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50920" y="115920"/>
            <a:ext cx="8381880" cy="27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0066"/>
                </a:solidFill>
                <a:latin typeface="Times New Roman"/>
              </a:rPr>
              <a:t>EXTRACTION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cc00"/>
                </a:solidFill>
                <a:latin typeface="Times New Roman"/>
              </a:rPr>
              <a:t>EXTRACTION</a:t>
            </a:r>
            <a:endParaRPr b="0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84360" y="2565360"/>
            <a:ext cx="7696080" cy="15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Times New Roman"/>
              </a:rPr>
              <a:t>from the lectur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About IT Systems with learning capabilit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Object 2"/>
          <p:cNvGraphicFramePr/>
          <p:nvPr/>
        </p:nvGraphicFramePr>
        <p:xfrm>
          <a:off x="468360" y="1557360"/>
          <a:ext cx="784872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, 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wo types of feedbac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 and positi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971640" y="25653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: the internal controls in all continuously working systems is based on negativ feedbac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35" name="Picture 19" descr="nvisz"/>
          <p:cNvPicPr/>
          <p:nvPr/>
        </p:nvPicPr>
        <p:blipFill>
          <a:blip r:embed="rId3"/>
          <a:stretch/>
        </p:blipFill>
        <p:spPr>
          <a:xfrm>
            <a:off x="4788000" y="2637000"/>
            <a:ext cx="3022560" cy="10969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20"/>
          <p:cNvSpPr/>
          <p:nvPr/>
        </p:nvSpPr>
        <p:spPr>
          <a:xfrm>
            <a:off x="1116000" y="429264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ositiv: a very little change makes a relativ hudge change in the whol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AutoShape 21"/>
          <p:cNvSpPr/>
          <p:nvPr/>
        </p:nvSpPr>
        <p:spPr>
          <a:xfrm>
            <a:off x="6012000" y="4365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Text Box 27"/>
          <p:cNvSpPr/>
          <p:nvPr/>
        </p:nvSpPr>
        <p:spPr>
          <a:xfrm>
            <a:off x="1547640" y="54450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everyday thinking: association with destruc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- 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cessity of positiv feedback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1116000" y="292428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ithout control: atomic bom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ith control: nuclear power plant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nergy for usa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1187280" y="386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iology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234000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lood clott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4140360" y="386064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ciduous (apoptos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8" name="Picture 11" descr="gomba"/>
          <p:cNvPicPr/>
          <p:nvPr/>
        </p:nvPicPr>
        <p:blipFill>
          <a:blip r:embed="rId3"/>
          <a:stretch/>
        </p:blipFill>
        <p:spPr>
          <a:xfrm>
            <a:off x="6156360" y="1844640"/>
            <a:ext cx="1944720" cy="1467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2" descr="apeiler"/>
          <p:cNvPicPr/>
          <p:nvPr/>
        </p:nvPicPr>
        <p:blipFill>
          <a:blip r:embed="rId4"/>
          <a:stretch/>
        </p:blipFill>
        <p:spPr>
          <a:xfrm>
            <a:off x="6156360" y="378936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3" descr="animalcell"/>
          <p:cNvPicPr/>
          <p:nvPr/>
        </p:nvPicPr>
        <p:blipFill>
          <a:blip r:embed="rId5"/>
          <a:stretch/>
        </p:blipFill>
        <p:spPr>
          <a:xfrm>
            <a:off x="2700360" y="4437000"/>
            <a:ext cx="2401920" cy="2054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sitiv and negativ together: instablili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111600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any controlled loop, where there are positiv and negativ feedbacks, the probability of instability is always greather than nu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1116000" y="292428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stability: he possibility, that a system may not be controlled anymore; or it comes into a state, which is not acceptable for us and there is no way to get ist back into a proper sta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sitiv and negativ together: potential for oscill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1042920" y="2492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xample: foxes and rabbits in a clos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4" name="Picture 10" descr="foxrabbit"/>
          <p:cNvPicPr/>
          <p:nvPr/>
        </p:nvPicPr>
        <p:blipFill>
          <a:blip r:embed="rId3"/>
          <a:stretch/>
        </p:blipFill>
        <p:spPr>
          <a:xfrm>
            <a:off x="2411280" y="3068640"/>
            <a:ext cx="3961080" cy="3021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67" name="Object 8"/>
          <p:cNvGraphicFramePr/>
          <p:nvPr/>
        </p:nvGraphicFramePr>
        <p:xfrm>
          <a:off x="324000" y="1341360"/>
          <a:ext cx="82087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208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Phase spa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971640" y="18446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hase space technic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e show the parameters of the system in an abtract space, where one single point decribes the whol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74" name="Picture 7" descr="lorenz"/>
          <p:cNvPicPr/>
          <p:nvPr/>
        </p:nvPicPr>
        <p:blipFill>
          <a:blip r:embed="rId3"/>
          <a:stretch/>
        </p:blipFill>
        <p:spPr>
          <a:xfrm>
            <a:off x="3059280" y="2997360"/>
            <a:ext cx="33145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3.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900000" y="1916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XVI-XVII. century: way to get knowledge about very compley systemes: get apart, scrutinize these par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971640" y="3284640"/>
            <a:ext cx="72007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In biology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we get no resul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here are so calles „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emergent popertie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”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hese cannot be explained by the properties of the consisting par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971640" y="5445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ibniz: learning „is the capability of  the whole system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900000" y="2205000"/>
            <a:ext cx="74678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ystems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uch a system has more beginning stability points in the phase spa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s gets from one possible stable point into a next possible stable point in the space via learn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dition for learning: self knowledge and a model about the outside wor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knowledge here: how reacts the system, what is the retroactivity of the reaction back to th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mend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hat is out of order, must be mend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or better reaction: making functioning unit more effici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1187280" y="529992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ot deterministic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92" name="Picture 9" descr="untitled2"/>
          <p:cNvPicPr/>
          <p:nvPr/>
        </p:nvPicPr>
        <p:blipFill>
          <a:blip r:embed="rId3"/>
          <a:stretch/>
        </p:blipFill>
        <p:spPr>
          <a:xfrm>
            <a:off x="3059280" y="3500280"/>
            <a:ext cx="2485800" cy="149400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16"/>
          <p:cNvSpPr/>
          <p:nvPr/>
        </p:nvSpPr>
        <p:spPr>
          <a:xfrm flipV="1">
            <a:off x="2268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ss fo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AutoShape 18"/>
          <p:cNvSpPr/>
          <p:nvPr/>
        </p:nvSpPr>
        <p:spPr>
          <a:xfrm flipV="1">
            <a:off x="5940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ss lig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AutoShape 19"/>
          <p:cNvSpPr/>
          <p:nvPr/>
        </p:nvSpPr>
        <p:spPr>
          <a:xfrm flipH="1">
            <a:off x="1258920" y="3573360"/>
            <a:ext cx="1728720" cy="576360"/>
          </a:xfrm>
          <a:prstGeom prst="rightArrow">
            <a:avLst>
              <a:gd name="adj1" fmla="val 50000"/>
              <a:gd name="adj2" fmla="val 7498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ore lig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AutoShape 20"/>
          <p:cNvSpPr/>
          <p:nvPr/>
        </p:nvSpPr>
        <p:spPr>
          <a:xfrm>
            <a:off x="5724360" y="3573360"/>
            <a:ext cx="1872000" cy="576360"/>
          </a:xfrm>
          <a:prstGeom prst="rightArrow">
            <a:avLst>
              <a:gd name="adj1" fmla="val 50000"/>
              <a:gd name="adj2" fmla="val 81199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ore fo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Text Box 21"/>
          <p:cNvSpPr/>
          <p:nvPr/>
        </p:nvSpPr>
        <p:spPr>
          <a:xfrm>
            <a:off x="900000" y="2205000"/>
            <a:ext cx="74678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he sun loving cell (by Dr. Tibor Gánt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ere are living too much cells: less food, less sunshine.        Into which direction is our friend moveing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900000" y="2205000"/>
            <a:ext cx="7467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learning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-mending in the biology: example bicep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187280" y="515700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ow grow the muscles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539640" y="3645000"/>
            <a:ext cx="784872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Dr. György Varga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539640" y="1413000"/>
            <a:ext cx="769644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IT systems with learning capabiliti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900000" y="4653000"/>
            <a:ext cx="7696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e3e3ff"/>
                </a:solidFill>
                <a:latin typeface="Tahoma"/>
              </a:rPr>
              <a:t>www.xplanet.hu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900000" y="2205000"/>
            <a:ext cx="74678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learing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bility of self mending: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making unit more effitient” is only possible with positiv feedbac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1258920" y="421236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here must be positiv feedback in learning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1258920" y="494100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ositiv feedback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nstabili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1258920" y="5598720"/>
            <a:ext cx="63374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ystems with learning capabilites are – without exception – insta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Is a system capable of learn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900000" y="21337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How we decide, a system is capable of learnin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1116000" y="4292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here are positiv and negativ feedbacks in each systems with learning capabilities –  so they are insta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1116000" y="3500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In this process: there is a nondeterministic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1116000" y="306864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an good adapt to changing environm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1116000" y="537300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earning is: self-mending on nondeterministic wa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Object 2"/>
          <p:cNvGraphicFramePr/>
          <p:nvPr/>
        </p:nvGraphicFramePr>
        <p:xfrm>
          <a:off x="684360" y="1773360"/>
          <a:ext cx="7848360" cy="47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848360" cy="47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 - summar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826920" y="1844640"/>
            <a:ext cx="746784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ystem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ach learning system is instable (in pahse spac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apable of making undeterministic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gets from a near stable point into another near stable point via learn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dition for learning: self knowledge and a model about the outer wor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knowledge here: how reacts the systems, what is the rectroactivity of the reaction back to th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mend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hat is out of order, must be mend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or better reaction: making funtioning unit more effictio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The process of learning is not deterministic and cannot be reproduc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c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Non linear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ractal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611280" y="141300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c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ot everybody likes it, but it is needed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athematics of nonlinear equations (chaos theory)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971640" y="3141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onlinear system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annot be described with linear euqations: example: turbulent motions in g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agyományos felfogá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ineáris egyenletek leírják a rendszert – folyamatos függvény, deriválható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971640" y="249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lineáris rendszere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lyeket nem lehet lineáris egyenletekkel leírni: pl. gázok turbulens viselkedé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1042920" y="3213000"/>
            <a:ext cx="72010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omplex rendszereket csak komplex függvényekkel lehet leírni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2124000" y="3788640"/>
            <a:ext cx="518472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: egyszerű determinisztikus fügvénny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1547640" y="4507560"/>
            <a:ext cx="5761080" cy="1522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ezdeti feltételek apró változása a viselkedés nem gyanított gazdagságát adhat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látszólagos kaotikus viselkedés rendezett strukúrákat, finom és szép ábrázatokat eredményez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0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042920" y="1773360"/>
            <a:ext cx="70866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Visszacsatolás és iteráció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iteráció nagy  komplexitást hozhat lét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  x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kx(1-x) , ahol  0 &lt; x &lt; 1  (pék transzformáció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hetetlen megjósolni, bizonyos (nagy számú) lépés után       mi lesz x érté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1187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lineáris egyenletek: a viselkedés pontos előrejelzése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042920" y="1773360"/>
            <a:ext cx="7086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dward N.Lorenz(1963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három paraméteres egyenletrendszer meteorológiai előrejelzés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rendkívül érzékeny a kezdeti paraméterek kicsi változására is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lőrejelzés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illangó-hatás(1979): „Brazilia felett egy pillangó szárnylebbenése akár egy tornádót is okozhat Texas felet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476360" y="4795200"/>
            <a:ext cx="237492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x/dt = R(y-x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y/dt = x(P-z) – 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z/dt = xy - B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8" name="Picture 7" descr="lorenz"/>
          <p:cNvPicPr/>
          <p:nvPr/>
        </p:nvPicPr>
        <p:blipFill>
          <a:blip r:embed="rId3"/>
          <a:stretch/>
        </p:blipFill>
        <p:spPr>
          <a:xfrm>
            <a:off x="4572000" y="4508640"/>
            <a:ext cx="1728720" cy="1490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az előrejelzés lehetetlensége, hogy egy adott időpontban az attraktor a fázistér melyik pontján halad á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971640" y="544428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őrejelzés lehetelensége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aotikus rendszer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áoszelmél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5" name="Picture 7" descr="lorenz"/>
          <p:cNvPicPr/>
          <p:nvPr/>
        </p:nvPicPr>
        <p:blipFill>
          <a:blip r:embed="rId3"/>
          <a:stretch/>
        </p:blipFill>
        <p:spPr>
          <a:xfrm>
            <a:off x="1258920" y="2421000"/>
            <a:ext cx="3314520" cy="28573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8"/>
          <p:cNvSpPr/>
          <p:nvPr/>
        </p:nvSpPr>
        <p:spPr>
          <a:xfrm>
            <a:off x="1258920" y="587628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áosz elmélet === nemlineáris egyenletek matematiká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7" name="Picture 9" descr="lorenz-3Dview"/>
          <p:cNvPicPr/>
          <p:nvPr/>
        </p:nvPicPr>
        <p:blipFill>
          <a:blip r:embed="rId4"/>
          <a:stretch/>
        </p:blipFill>
        <p:spPr>
          <a:xfrm>
            <a:off x="5076720" y="27813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tematika- fraktálgeometri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noit Mandelbro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magukhoz hasonló geometriai alakok tanulmányozása (felhő: 7 nagyságrend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1619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raktálok: önmagukhoz hasonló alakzakok, önmagukat kicsinyítve tartalmazz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Please follow next lin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84360" y="1844640"/>
            <a:ext cx="7993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bile teleph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oice-, picture- and vidoe recor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Question-Answer: only if one senc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ho knows the answer, should wait ½ a minu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geometria péld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enger szőnyeg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ényszög közepét – oldalak szerint egyharmad arányban – kivágju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ierpinki háromszög</a:t>
            </a: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lyukas háromszö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9" name="Picture 7" descr="sierp-zoom"/>
          <p:cNvPicPr/>
          <p:nvPr/>
        </p:nvPicPr>
        <p:blipFill>
          <a:blip r:embed="rId3"/>
          <a:stretch/>
        </p:blipFill>
        <p:spPr>
          <a:xfrm>
            <a:off x="5867280" y="364500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Aniteppich"/>
          <p:cNvPicPr/>
          <p:nvPr/>
        </p:nvPicPr>
        <p:blipFill>
          <a:blip r:embed="rId4"/>
          <a:stretch/>
        </p:blipFill>
        <p:spPr>
          <a:xfrm>
            <a:off x="125892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1042920" y="1773360"/>
            <a:ext cx="708660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aston Julia (1918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 Kc azon komplex számok halmaza, amelyekre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z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8" name="Picture 5" descr="Julia_set"/>
          <p:cNvPicPr/>
          <p:nvPr/>
        </p:nvPicPr>
        <p:blipFill>
          <a:blip r:embed="rId1"/>
          <a:stretch/>
        </p:blipFill>
        <p:spPr>
          <a:xfrm>
            <a:off x="826920" y="1341360"/>
            <a:ext cx="7272360" cy="4089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1" name="Picture 5" descr="julia_red"/>
          <p:cNvPicPr/>
          <p:nvPr/>
        </p:nvPicPr>
        <p:blipFill>
          <a:blip r:embed="rId1"/>
          <a:stretch/>
        </p:blipFill>
        <p:spPr>
          <a:xfrm>
            <a:off x="1547640" y="1268280"/>
            <a:ext cx="5759640" cy="510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4" name="Picture 5" descr="Mandel-Julia"/>
          <p:cNvPicPr/>
          <p:nvPr/>
        </p:nvPicPr>
        <p:blipFill>
          <a:blip r:embed="rId1"/>
          <a:stretch/>
        </p:blipFill>
        <p:spPr>
          <a:xfrm>
            <a:off x="1908000" y="1700280"/>
            <a:ext cx="4969080" cy="3730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7" name="Picture 5" descr="600px-Julia"/>
          <p:cNvPicPr/>
          <p:nvPr/>
        </p:nvPicPr>
        <p:blipFill>
          <a:blip r:embed="rId1"/>
          <a:stretch/>
        </p:blipFill>
        <p:spPr>
          <a:xfrm>
            <a:off x="2050920" y="1413000"/>
            <a:ext cx="5067360" cy="5067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Fraktálok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900000" y="2133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lyen különbségek vannak az előző két kép közöt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1403280" y="378864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ülönálló területek, vagy egy összefüggő 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andelbrot halmaz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on komplex számok halmaza, amelyekre z = (o + i0) kezdőértékkel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0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1547640" y="4579920"/>
            <a:ext cx="5761080" cy="69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ndelbrot halmaz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halmaz a z=0 kezdőértékk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1547640" y="552384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sejtése: ezek a halmazok összefüggő területet ad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: alma-emberk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3" name="Picture 5" descr="Mandelbrot-Menge_farbig"/>
          <p:cNvPicPr/>
          <p:nvPr/>
        </p:nvPicPr>
        <p:blipFill>
          <a:blip r:embed="rId1"/>
          <a:stretch/>
        </p:blipFill>
        <p:spPr>
          <a:xfrm>
            <a:off x="1258920" y="1557360"/>
            <a:ext cx="6656400" cy="4992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6" name="Picture 5" descr="db_Chaos-Mandelbrot1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Cont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Text Box 205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bout systems with learning capabilit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elation: learning systems and IT architect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xamples (IT architectur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here we may learn (what are we doing wrong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Rectangle 207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9" name="Picture 5" descr="abfluss"/>
          <p:cNvPicPr/>
          <p:nvPr/>
        </p:nvPicPr>
        <p:blipFill>
          <a:blip r:embed="rId1"/>
          <a:stretch/>
        </p:blipFill>
        <p:spPr>
          <a:xfrm>
            <a:off x="1547640" y="1700280"/>
            <a:ext cx="5545440" cy="415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Object 2"/>
          <p:cNvGraphicFramePr/>
          <p:nvPr/>
        </p:nvGraphicFramePr>
        <p:xfrm>
          <a:off x="684360" y="1628640"/>
          <a:ext cx="784836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84836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iért érekes a Mandelbrot halmaz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971640" y="2133720"/>
            <a:ext cx="708660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t értékelhetjük úgy, mint egy fázistér-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sak azok a Julia ábrák érdekesek, amelyekben a halmazelemek összefüggő területet alkot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nnyiben egy rendszert csak ezen a területen belül engedjül létezni, a rendszer működőképes (korlátos) maradh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 – nemlineáris egyenletekkel leírt – rendszer stabilitása nagyon érzékeny a pontos kezdeti feltételek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jegyzés: nincs kijelentésünk a gyűjtőpontok (attraktor) számáról – Lorenz attraktor: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1403280" y="5804640"/>
            <a:ext cx="5761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Mandelbrot halmaz szélei fraktál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ok - ké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8" name="Picture 5" descr="800px-Mandelbrotmenge_Orbit_Alle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Szemléletbeli problém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971640" y="213372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ában döntések egy része nem determinisztik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repülőtér, két kijár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116000" y="4651920"/>
            <a:ext cx="6912000" cy="974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valós életben a döntések egy része nem előre meghatározot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z hozzájárul ahhoz, hogy tudunk tanulni (alkalmazkodni)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Szemléletbeli problém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042920" y="1773360"/>
            <a:ext cx="7086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ában döntések egy része nem determinisztik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a a döntés nem manifelsztálódik a külső vagy belső modell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„alkotó” soha nem tudja meg, mikor miért döntött a rendszer úgy ahogy tet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eljes tanulási folyamat nem ismételhető meg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terminisztikus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1332000" y="4941000"/>
            <a:ext cx="6480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z az a pont, ahol a műszaki embereket kirázza a hideg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 az a jelenség vagy folyamat, ami jellemző a tanulóképes rendszerekre, és még nem volt róla szó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ire iszik a magyar ember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AutoShape 7"/>
          <p:cNvSpPr/>
          <p:nvPr/>
        </p:nvSpPr>
        <p:spPr>
          <a:xfrm>
            <a:off x="1403280" y="2133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AutoShape 8"/>
          <p:cNvSpPr/>
          <p:nvPr/>
        </p:nvSpPr>
        <p:spPr>
          <a:xfrm>
            <a:off x="2700360" y="2205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percep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AutoShape 9"/>
          <p:cNvSpPr/>
          <p:nvPr/>
        </p:nvSpPr>
        <p:spPr>
          <a:xfrm>
            <a:off x="2700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pu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AutoShape 10"/>
          <p:cNvSpPr/>
          <p:nvPr/>
        </p:nvSpPr>
        <p:spPr>
          <a:xfrm>
            <a:off x="4932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iscus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6804000" y="22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ss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4932360" y="40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ot importa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AutoShape 13"/>
          <p:cNvSpPr/>
          <p:nvPr/>
        </p:nvSpPr>
        <p:spPr>
          <a:xfrm>
            <a:off x="5003640" y="494172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org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Line 14"/>
          <p:cNvSpPr/>
          <p:nvPr/>
        </p:nvSpPr>
        <p:spPr>
          <a:xfrm>
            <a:off x="2340000" y="242100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Line 15"/>
          <p:cNvSpPr/>
          <p:nvPr/>
        </p:nvSpPr>
        <p:spPr>
          <a:xfrm>
            <a:off x="3348000" y="2708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Line 16"/>
          <p:cNvSpPr/>
          <p:nvPr/>
        </p:nvSpPr>
        <p:spPr>
          <a:xfrm>
            <a:off x="4211640" y="3357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Line 17"/>
          <p:cNvSpPr/>
          <p:nvPr/>
        </p:nvSpPr>
        <p:spPr>
          <a:xfrm flipV="1">
            <a:off x="6443640" y="270792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Line 18"/>
          <p:cNvSpPr/>
          <p:nvPr/>
        </p:nvSpPr>
        <p:spPr>
          <a:xfrm>
            <a:off x="5651640" y="3645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Line 19"/>
          <p:cNvSpPr/>
          <p:nvPr/>
        </p:nvSpPr>
        <p:spPr>
          <a:xfrm>
            <a:off x="5651640" y="450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8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042920" y="1773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Lot of old reactions is unnesessary in the new situ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What won’t be needed: should be forgot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omething to forget: may be consio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187280" y="4075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stinction between important and not importa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971640" y="2421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not important – forgetting - perce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971640" y="4652280"/>
            <a:ext cx="648000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észlelést tudatunk – a lényeges, lényegtelen alapján –  jelentősen befolyásol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1042920" y="2997360"/>
            <a:ext cx="7086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, hogy mit tartunk lényegtelennek, észlelésünket is befolyásolja. Nagyon jelentőse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971640" y="1844640"/>
            <a:ext cx="708660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reprodukciója (másolása)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 reprodukciója egyszerű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már „tanult” rendszer másolása csak akkor egyszerű, ha a rendszer működés közben is fizikailag jól körülhatárolt és elválaszható környezetétő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1116000" y="4005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tanított ideghálózat-szimuláci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férfi-nő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263700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P A R T</a:t>
            </a:r>
            <a:br>
              <a:rPr sz="4000"/>
            </a:b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1 / 4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önreprodukciója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em foglalkozunk ve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1116000" y="4005360"/>
            <a:ext cx="70866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ámítógép vírusok: adaptációra képes „alkotások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Kérdés: hogyan vizsgálják meg, hogy befogadót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az adott számítógépet) már megfertőződöt-e az adott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írustól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Object 2"/>
          <p:cNvGraphicFramePr/>
          <p:nvPr/>
        </p:nvGraphicFramePr>
        <p:xfrm>
          <a:off x="395280" y="1773360"/>
          <a:ext cx="8458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458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Rectangle 3"/>
          <p:cNvSpPr/>
          <p:nvPr/>
        </p:nvSpPr>
        <p:spPr>
          <a:xfrm>
            <a:off x="468360" y="2924280"/>
            <a:ext cx="8064360" cy="338436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AutoShape 4"/>
          <p:cNvSpPr/>
          <p:nvPr/>
        </p:nvSpPr>
        <p:spPr>
          <a:xfrm>
            <a:off x="539640" y="3933720"/>
            <a:ext cx="6191280" cy="1800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9</a:t>
            </a:r>
            <a:r>
              <a:rPr b="0" lang="en-IE" sz="4400" spc="-1" strike="noStrike">
                <a:solidFill>
                  <a:srgbClr val="e3e3ff"/>
                </a:solidFill>
                <a:latin typeface="Arial"/>
                <a:ea typeface="Arial"/>
              </a:rPr>
              <a:t>. </a:t>
            </a: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539640" y="1773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ystems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3564000" y="2276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nwironm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AutoShape 9"/>
          <p:cNvSpPr/>
          <p:nvPr/>
        </p:nvSpPr>
        <p:spPr>
          <a:xfrm>
            <a:off x="284328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percep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AutoShape 10"/>
          <p:cNvSpPr/>
          <p:nvPr/>
        </p:nvSpPr>
        <p:spPr>
          <a:xfrm>
            <a:off x="3132000" y="4437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ecision d/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684360" y="4437000"/>
            <a:ext cx="143964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mporta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12"/>
          <p:cNvSpPr/>
          <p:nvPr/>
        </p:nvSpPr>
        <p:spPr>
          <a:xfrm>
            <a:off x="399564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ista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Line 13"/>
          <p:cNvSpPr/>
          <p:nvPr/>
        </p:nvSpPr>
        <p:spPr>
          <a:xfrm>
            <a:off x="3492360" y="2708280"/>
            <a:ext cx="0" cy="50472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14"/>
          <p:cNvSpPr/>
          <p:nvPr/>
        </p:nvSpPr>
        <p:spPr>
          <a:xfrm>
            <a:off x="190800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Line 15"/>
          <p:cNvSpPr/>
          <p:nvPr/>
        </p:nvSpPr>
        <p:spPr>
          <a:xfrm flipV="1">
            <a:off x="1403280" y="3573000"/>
            <a:ext cx="1297080" cy="647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Line 16"/>
          <p:cNvSpPr/>
          <p:nvPr/>
        </p:nvSpPr>
        <p:spPr>
          <a:xfrm>
            <a:off x="3492360" y="3645000"/>
            <a:ext cx="35892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Line 17"/>
          <p:cNvSpPr/>
          <p:nvPr/>
        </p:nvSpPr>
        <p:spPr>
          <a:xfrm flipH="1">
            <a:off x="2627280" y="4724280"/>
            <a:ext cx="432000" cy="289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Line 18"/>
          <p:cNvSpPr/>
          <p:nvPr/>
        </p:nvSpPr>
        <p:spPr>
          <a:xfrm>
            <a:off x="4572000" y="4724280"/>
            <a:ext cx="28728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Line 19"/>
          <p:cNvSpPr/>
          <p:nvPr/>
        </p:nvSpPr>
        <p:spPr>
          <a:xfrm flipH="1">
            <a:off x="2268000" y="4581360"/>
            <a:ext cx="721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AutoShape 20"/>
          <p:cNvSpPr/>
          <p:nvPr/>
        </p:nvSpPr>
        <p:spPr>
          <a:xfrm>
            <a:off x="6804000" y="4221000"/>
            <a:ext cx="1655640" cy="792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obliv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Line 21"/>
          <p:cNvSpPr/>
          <p:nvPr/>
        </p:nvSpPr>
        <p:spPr>
          <a:xfrm>
            <a:off x="6372360" y="4508640"/>
            <a:ext cx="433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Line 22"/>
          <p:cNvSpPr/>
          <p:nvPr/>
        </p:nvSpPr>
        <p:spPr>
          <a:xfrm flipH="1">
            <a:off x="6372000" y="4724280"/>
            <a:ext cx="43164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Text Box 23"/>
          <p:cNvSpPr/>
          <p:nvPr/>
        </p:nvSpPr>
        <p:spPr>
          <a:xfrm>
            <a:off x="5003640" y="5373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Text Box 24"/>
          <p:cNvSpPr/>
          <p:nvPr/>
        </p:nvSpPr>
        <p:spPr>
          <a:xfrm>
            <a:off x="1979640" y="5877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nstabile system with a lot of negative and positive loopback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AutoShape 25"/>
          <p:cNvSpPr/>
          <p:nvPr/>
        </p:nvSpPr>
        <p:spPr>
          <a:xfrm>
            <a:off x="4500720" y="3141720"/>
            <a:ext cx="136656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nfluen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Line 26"/>
          <p:cNvSpPr/>
          <p:nvPr/>
        </p:nvSpPr>
        <p:spPr>
          <a:xfrm flipV="1">
            <a:off x="4284720" y="3645000"/>
            <a:ext cx="64764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Line 27"/>
          <p:cNvSpPr/>
          <p:nvPr/>
        </p:nvSpPr>
        <p:spPr>
          <a:xfrm flipV="1">
            <a:off x="5076720" y="2708280"/>
            <a:ext cx="0" cy="503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55280" y="263700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END OF  PART</a:t>
            </a:r>
            <a:br>
              <a:rPr sz="4000"/>
            </a:b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1 / 4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IT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rchitectur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This is a real technical issu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Examples (IT architecture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Is this not borin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hat we can do it better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(what is wrong?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Common knowledge is common treasur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hat is your view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learning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2268360" y="4365720"/>
            <a:ext cx="4896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Thank for your attention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systems with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learning capabiliti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What is your view about learnin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View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00000" y="2133720"/>
            <a:ext cx="69343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emlélet: egy adott témához kapcsolódó felfogás vagy álláspo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Felfogás: gondolkodásmód, elképz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mód: mód, aholgyan gondolkodunk (spontán, érzelemmel, racionálisan,..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: belső elfoglaltság, amikor megpróbálunk egy felismerést megfogalmazni,elképzelések, emlékek és fogalmak alapj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124000" y="5589000"/>
            <a:ext cx="44658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szemlélet alapja a hit, vagy a tud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2"/>
          <p:cNvGraphicFramePr/>
          <p:nvPr/>
        </p:nvGraphicFramePr>
        <p:xfrm>
          <a:off x="468360" y="184464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Capable of learn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hat is the criterion to be able to lear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3203640" y="3645000"/>
            <a:ext cx="2808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learn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2124000" y="465300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450072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2124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7020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118728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kill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AutoShape 14"/>
          <p:cNvSpPr/>
          <p:nvPr/>
        </p:nvSpPr>
        <p:spPr>
          <a:xfrm>
            <a:off x="594036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wn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611280" y="5804640"/>
            <a:ext cx="3240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hat and how: will be giv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4788000" y="5804640"/>
            <a:ext cx="3456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king own capability bett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1835280" y="2923560"/>
            <a:ext cx="51847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an good adapt to changing environm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AutoShape 18"/>
          <p:cNvSpPr/>
          <p:nvPr/>
        </p:nvSpPr>
        <p:spPr>
          <a:xfrm>
            <a:off x="7236000" y="4221000"/>
            <a:ext cx="720720" cy="648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0:09:43Z</dcterms:created>
  <dc:creator>www.xplanet.hu</dc:creator>
  <dc:description/>
  <dc:language>en-US</dc:language>
  <cp:lastModifiedBy>Gyorgy Varga</cp:lastModifiedBy>
  <dcterms:modified xsi:type="dcterms:W3CDTF">2013-01-04T19:45:16Z</dcterms:modified>
  <cp:revision>1598</cp:revision>
  <dc:subject/>
  <dc:title>J2EE-001-VargaGy</dc:title>
</cp:coreProperties>
</file>