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075A-7F0A-43A5-A774-CAEC858E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6537-8CB7-4278-88FE-7FED34B0E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1F4F-2967-4146-A2A5-39E3F9816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2A23-DEC9-4875-9F29-8B465F3FD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3071-1DBF-4327-984D-9131E7CC6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5683-8D91-4865-A3EF-49F995454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2025-4BD0-4BD2-A18A-AEE82F2CE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DBA-B50F-4E6D-BD74-F626445E0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3235-4087-4C65-B029-057E2E8E3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5510-3F29-4F8D-983D-A12B70019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D127-0E94-4FD7-B9DD-82073122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E385-FA0B-40B5-90E5-C1D889C3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352B-D8C4-42FA-A09E-0EA041342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6D76-3FF2-4581-B9A5-2C89A06A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9B15-A515-478B-AC6A-10FF2A669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E2FE-5888-44A5-9098-FFD0AAE2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0FB7-3C43-422B-BCD7-517D2B21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AF4A-DA3F-47EE-801D-2043B9D49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3B67-5567-40DF-A210-BFC42EC16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40CC-3160-4C0C-814E-EA5806072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ED1A-0F6D-455E-8B74-497824E9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965D-8F50-43F6-8787-C7EB844D4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9902-AE67-4FA9-A6AC-77FC8F4E6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D96E-2866-40B4-8DDB-146FABA9C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8F61-BE40-4C48-911A-549EEAE81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56A6-B9EB-45C0-B597-829EDA4BA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0947-AEFA-4DE3-8899-A31F5EE8D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4D78-4BC4-4674-8608-B4C5C0727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B525-5953-4C41-BD86-6C44096D6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BBD4-6E2C-4C5A-BCEE-B5FAD4274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D0C2-D9DF-4240-AC3C-5B15DA5D9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229B-DB73-47D1-9AA5-D4973FE3B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F9D4-EEF6-4346-841F-E90F1B6B1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4B47-0330-4729-892A-4C34134FA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CD5C-0E44-4295-814B-A49A91605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F458-4DCB-4485-B29E-320968DAB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24B7-829E-484A-985C-926EE26F1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688-647B-4FA0-B68C-E2818C9B2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885C-84BA-42F3-A5F8-92154370F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A5E6-6DCD-4F9A-B588-1D604691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02EC-52B9-4473-BA7F-A9049225F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E282-80FE-44DD-9A6E-AC47B4403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25B-58B3-4FE0-AA72-A39DE93A5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71EC-075E-4307-853D-86D61FA26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5E1-830C-4CF5-B351-A2A92F999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643-05A1-43D4-931B-E95EBF00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1993-A403-406E-A757-11350B82B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DE92-6377-4D97-99B3-3CB4D867C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CD45-B9AF-4DB6-855B-0CF08B190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B7C3-3D9A-4C73-94EA-ABBB82A34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345D-2DD7-4B78-8864-A299CCDC6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9214-47FB-41A5-ABC0-EE5F67B97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71A-C9FE-4B04-9B40-E59411A55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A9C7-6CC6-45FD-B668-6202EE43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225E-8855-4E59-92DE-52360A7FF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7294-3FF6-4613-B18D-256AB700E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52A-4040-407A-9B99-A8533E0F3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CA28-5CFA-42C6-AD6A-38465253D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4DD8-F221-4C0D-A91C-05891C63B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8DD-2256-401A-8936-CF291CCF6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5319-39AF-4E82-B870-B4A8F2064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30A5-7E3C-4BD0-900F-F0F8A0FE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DF7C-D6EC-42B8-8866-63943451E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AF56-E3EE-4140-8974-CABD73515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181-D7F3-42E7-8CF5-52F463FCA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19B-D93F-4C45-85A4-A66D80AE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022-544F-410A-930B-CD0017A0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D96-2144-494D-86EB-70B15C25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E35-A946-4785-8C11-C125A034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586FD-0AC8-46ED-8906-078128A2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23407-AFC0-4741-9651-35518B2E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D377D-6E31-4C24-92B7-4F9EB448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45B71-980A-4E9E-81AC-A64B3F4B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2AD12-39D6-4BE2-BD44-2788D4D3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079CA-B13C-4037-A8BD-63E898F8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02CB6-ABBF-4B44-B7CA-EDAE01EB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4CC-00EF-4FCE-B579-55862E76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7B209-1399-4B88-9C39-AB013ED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EC873-1299-43E4-B682-5894C1CB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BE3B7-67B6-46CD-A708-0298DB51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AC9FE-4AEC-442F-A11E-83C7BC41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4637A-7E16-4987-BFF0-F0C0311C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57E-E6B5-4F72-B99B-561B964C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0CE-2C8C-4504-9856-CB5A81F5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F31-69FA-43C6-B309-351E21D0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700-13EC-4D5A-8866-E67E5E24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DF8-7FE5-465E-B81E-3D63E395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E64-A911-4D8C-8E66-D876B9F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227-E26A-4C61-A3CB-A2804F0D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F82-A637-4567-B023-C84F1B10AA4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FF0E-25F6-4773-B363-480FDF08895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ren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teuer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ch gebe vor, was du machen mu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nfluss auf Grund des Vergleiches „soll” und „ist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ausführliche Darstel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924280"/>
            <a:ext cx="187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regelter W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10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Modell bild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Wiedergabe der Wirlkichkeit – für uns zweckmäßig vereinfa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muster, Testreihen, Testsignal, Super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onstanter Fluss aus einem Kess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ecke ist gegeben, sein Modell ist vollständig bekannt, das Modell ändern sich n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genschaften der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cke ist gegeben, sein Modell ist vollständig bekannt, mindestens ein Parameter der Strecke ist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dapti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recke-Eigenschaften ändern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odell der Strecke ist bekannt, die Eigenschaften der Strecke können sich ändern, die Änderung dieser Eigenschaften werden im Zustandsmodell erfa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nur die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n kann nur die Parameter der Strecke änder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971640" y="5300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ispi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ädtische Wasserversorgung, Flugzeu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Fr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arum wird in dem Luftverkehr bei Passagierflugzeugen kein Robotpilt eingesetz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en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Zwei Arten von Rückkopplunge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 und posi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971640" y="2565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: die innere Regelung in kontinuierlich arbeitenden Systemen ist immer nega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9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0"/>
          <p:cNvSpPr/>
          <p:nvPr/>
        </p:nvSpPr>
        <p:spPr>
          <a:xfrm>
            <a:off x="971640" y="4292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e: auch die minimalste Änderung bringt eine übergroße Veränderung mit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1116000" y="5589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m Allgemeinen negative Assozia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- positi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wendigkeit der positiven Rückkopp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hne Regelung: Atombomb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 Regelung: Atomkraftwerk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egew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ie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utger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21164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tblätterung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e und negative zusammen: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inem Regelkreis – wo sowohl negative als auch positive Rückkopplungen vorhanden sind – ist die Wahrscheinlichkeit der Instabilität größer als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ät: die Möglichkeit, dass das System nicht mehr steuerbar wird, oder in einem solchen Zustand festsetzt, was für und ungünstig ist und lässt sich aus diesem Zustand nicht mehr herausbri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ive und negative zusammen: Möglichkeit der Osz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(~1890): Tierpopulation – Füchse und Ha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8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1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nra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nraum Techni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Paramter des Systems werden in einem abstrakten Raum dargestellt, in dem ein einziger Punkt den Zusand des ganzen Systems beschr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826920" y="19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Jahhundert: Die Möglichkeit ein Verständnis über komplexe Systeme zu erwerben: nehmen wir es auseinander, untersuchen wir di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00000" y="3284640"/>
            <a:ext cx="7201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der Biologi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führt das nicht zum Zi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existieren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e Eigenschafte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che Eigenschaften, deren Erscheinung auf Grund der Eigenschaften der Teile nicht hinreichend erklärt werden kann. Atom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Molerül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Zellen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Orga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00000" y="544500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Die Fähigkeit des Lernens ist ei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genschaft des zum Ganzen zusammengesetzten Systems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00000" y="213372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am Anfang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f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Fall des sich sonnenden Einzellers (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ier leben zu viele Zellen: weniger Essen und weniger Licht. Wo geht unser Freund hin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187280" y="580464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nichtdeterministisch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untitled2"/>
          <p:cNvPicPr/>
          <p:nvPr/>
        </p:nvPicPr>
        <p:blipFill>
          <a:blip r:embed="rId3"/>
          <a:stretch/>
        </p:blipFill>
        <p:spPr>
          <a:xfrm>
            <a:off x="3059280" y="378936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16"/>
          <p:cNvSpPr/>
          <p:nvPr/>
        </p:nvSpPr>
        <p:spPr>
          <a:xfrm flipV="1">
            <a:off x="1979640" y="436572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AutoShape 18"/>
          <p:cNvSpPr/>
          <p:nvPr/>
        </p:nvSpPr>
        <p:spPr>
          <a:xfrm flipV="1">
            <a:off x="6227640" y="436572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AutoShape 19"/>
          <p:cNvSpPr/>
          <p:nvPr/>
        </p:nvSpPr>
        <p:spPr>
          <a:xfrm flipH="1">
            <a:off x="1258920" y="386244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5724360" y="386244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-Verbesserung in der Biologie: zb. Der Biz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187280" y="49914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ie wachsen die Muskel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Arial"/>
              </a:rPr>
              <a:t>(nur verbal=beide wollen: Zelle, Umgeb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rnfähigen System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-Verbesseru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funktionierende Einheit effizienter zu machen” – kann ohen positive Rückkopplung nicht funktionier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 lenfähigen Systemen muss zwangsläufig positive Rückkopplung vorha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ive Rückkopplung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lenfähigen Systeme sind – ohne Ausnahme – instabil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Wann ist ein System lerfähi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m jeden lernfähigen System findet man positive Rückkopplung, deswegen sind sie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116000" y="350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und in diesem Prozess auch nichtdeterministische Entscheidung gefällt wir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enn es sich zu ändernden Verhältnisse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16000" y="5236560"/>
            <a:ext cx="633744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rnen: Selbs-Verbesserung über nichtdeterministis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m Vora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dio- und Bildaufnahm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cht eingeübt – Inhalt, Zusammenstell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rage-Antwort: ein Sat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r die Antwort kennt, soll ½ Minute war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Zusammenfassung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00000" y="1989000"/>
            <a:ext cx="746784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mac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Prozess des Lernens ist nichtdeterministisch und ist somit nicht reproduzi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ichlineare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efällt nicht jedem, aber notwendig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k der nicht linearen Gleichungen (Chaostheorie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31417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nearen Gleichungen nicht beschrieben werden – Beispiel: turbulentes Verhalten der Ga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erkömliche Sich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are Gleichungen beschreiben das System  – kontinuierliche Funktion, Derivat existier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t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earen Gleichungen nicht beschrieben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1042920" y="3213000"/>
            <a:ext cx="720108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nn komplexes Systemverhalten nur mit Hilfe komplexer Funktionen beschieben werde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835280" y="407592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in: einfache deterministische Funk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547640" y="4515840"/>
            <a:ext cx="5761080" cy="179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sehr geringfügige Änderung der Anfangsbedingungen kann eine große Menge verschiedene Antworten ge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scheinbar chaotische Verhalten kann in bildhafte Strukturen geordnet werden, wobei sehr feine und schöne Bilder entste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ückkopplung und Iteratio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 Iteration kann große Komplexität hervorruf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Becker-Transformatio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ist nicht möglich vorauszusagen, welchen Wert x nach bestimmten (genügend großer Anzahl von) Schritten annimm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47636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 lineare Gleichungen: genaue Vorhersage des Verhaltens ist nicht 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s Gleichungssystem mit 3 Paramter für meteorologische Vorher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äußerst empfindlich gegenüber Änderungen der Anfangsparameter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Vorhersage ist un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chmetteling-Effekt: „Wenn ein Schmetterling heute über Brasilien einmal Flattert, kann sein, dass nach einem Monat ein Tornado über New York entsteh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2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971640" y="148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die Unmöglichkeit der Vorhersage, im welchen Punkt des Phasenraumes sich der Zustand des Systems (Attracktors) in einem vorgegebenen Zeipunkt befind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orhersage unmöglich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tisches System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s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9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8"/>
          <p:cNvSpPr/>
          <p:nvPr/>
        </p:nvSpPr>
        <p:spPr>
          <a:xfrm>
            <a:off x="1116000" y="5876280"/>
            <a:ext cx="6985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haostheorie === Mathematik der nichlinearen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1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hematik - Fraktalgeometri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tersuchung von selbstähnlichen Figuren (Wolke: Ähnlich bis zur 7 Größenordn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4764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ale: sich selbst in in kleneren Form enthaltende Formen und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ale - Beispie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Teppich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te des Quadrates – ein dritter von der Seite  – wird ausgeschni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Dreieck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Dreieck mit Loch in der Mi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3" name="Picture 6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c ist die Menge der komplexen Zahlen, bei denen die iterierte quadratische komplex Funk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nhal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ber lernfähige Syste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T Architekturfra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eispiele (IT Architektu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o wir noch lernen können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was machen wir falsch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Zusammenfass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2" name="Picture 4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5" name="Picture 4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4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4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a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elche Unterschiede findet man zwischen den zwei letzten Bild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971640" y="3788640"/>
            <a:ext cx="7129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ersplitterte Bereiche, oder ein zusammenhändender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Meng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nge der komplexen Zahlen, für welche mit dem Anfangswert z = (o + i0) die iterierte quadratische Abbil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Meng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Menge mit Anfangswert z=(0 + 0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Vermutung: diese Mengen bilden immer einen zusammenhängenden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pfelmännch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Picture 4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 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Picture 4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4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Warum ist dieMandelbrot Menge interessan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900000" y="1700280"/>
            <a:ext cx="708660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önnen wir auch als ein Phasendiagramm betrach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sind nur die Julia Mengen interessant, wo die Elemente in einem zusammenhängenden Bereich lie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ange wir einem System Zustände nur innerhalb dieses Bereiches erlauben, das System kann arbeitsfähig (beschränkt) blei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Stabilität eines – wohl mit nicht linearer Gleichung beschiebenen  – Systems ist stark von empfindlichen und genauen Anfangsbedingungen anhäng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merkung: hier ist keine Aussage über die Anzahl der Sammelpunkte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403280" y="5949360"/>
            <a:ext cx="6193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m Rand der Mandelbrot Menge findet man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2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l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dungen ist – im Prozess des Lernens –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Flughafen, zwei Ausgä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900000" y="4650840"/>
            <a:ext cx="741708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m Leben ist ein Teil der wirkli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t vorbestimm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se Tatsache trägt dazu bei, dass wir lernen (anpassen) kön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idungen ist im Prozess des Lernens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nn die Entscheidung sich nicht in einem inneren oder äußeren Modell manifest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„Schöpfer” wird nie erfahren, wann und warum das System sich so entschieden 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vollständige Prozess des Lernens kann nich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tisch wiederholt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ist der Punkt, wo der technische Fachman kapituliert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ist die Erscheinung oder der Prozess, was sich zu dem Lernprozess gehört, und noch nicht angeprochen wurd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orauf trinkt ma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2700360" y="2205000"/>
            <a:ext cx="158436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neip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4932360" y="3141720"/>
            <a:ext cx="151128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k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eine 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 einer neuen Umgebung ist ein Teil der Reaktionen einfach überflüss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as nicht gebraucht wird: das muss vergess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187280" y="3283920"/>
            <a:ext cx="6480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Vergessen kann – und ist auch oft – mit der Wille des Vergessens verbu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26920" y="436500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s muss die Unterscheidung  „wichtig/unwichtig” gertoff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71640" y="2060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Unwichtig – Vergessen - Wahrnehm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971640" y="4488120"/>
            <a:ext cx="6480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Wahrnehmung wird von unserem Bewusstsei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uf Grund der Einordnung wichtig/unwichtig –wesentlich beeinflu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, was wir für wichtig halten, beeinflusst auch unsere Wahrnehmung. Dieser Einfluss ist sehr star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971640" y="1844640"/>
            <a:ext cx="7086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produktion lernfähiger technischen Systeme (kopieren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produktion lernfähiger Systeme ist einfa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eproduktion eines „schon gelernten Systems” ist nu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nn eifach,wenn das System auch während de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rbeit von der Umgebung physikalisch gut abgrenzba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d abtrennbar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gelehrte Nervensystem-Simu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männlich-weiblich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elbstreproduktion technischer System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wird nicht behande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116000" y="4005360"/>
            <a:ext cx="7086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mputerviren: adaptierungsfähige „Werk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rage: wie prüfen sie, ob der Wirt-Kompuer (Wirtzell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on diesem Virus befallen ist, oder nich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Zusammenfass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556000" y="3141720"/>
            <a:ext cx="180000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2916360" y="4437000"/>
            <a:ext cx="187164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scheidung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rrt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Ände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Line 17"/>
          <p:cNvSpPr/>
          <p:nvPr/>
        </p:nvSpPr>
        <p:spPr>
          <a:xfrm flipH="1">
            <a:off x="2555640" y="4797360"/>
            <a:ext cx="360360" cy="287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4572000" y="4869000"/>
            <a:ext cx="287280" cy="215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9"/>
          <p:cNvSpPr/>
          <p:nvPr/>
        </p:nvSpPr>
        <p:spPr>
          <a:xfrm flipH="1">
            <a:off x="2123640" y="4653000"/>
            <a:ext cx="792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Gedächtn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2627280" y="5877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ive und  positive Rückkopplungen, instabil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ingr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Anschau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Anschau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Anschauung: die Art und Weise, wie man etwas betrachtet oder interpretiert oder über etwas denk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weise: bestimmter Gedankenablauf, basierend auf Erfahrung, Gemützustand, äußere Einflüsse,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en: innere Beschäftigung, wenn wir versuchen eine Erkenntnis zu formulieren, basiert auf Vorstellungen, Erinnerungen und Begriff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58920" y="5515920"/>
            <a:ext cx="684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r Grund der Anschauung ist die Glaube oder das Wi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kturfragen der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Jetzt wird es technisch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Beispiel (IT Architektur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Haben Sie noch nicht genu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o wir noch lernen könne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as machen wir falsch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s gemeinsamme Wissen ist auch ein gemeinsammer Schatz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nke Ihre Geduld und Aufmeksamke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E N D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Lernfähi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r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042920" y="5013360"/>
            <a:ext cx="23050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rd gele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580000" y="5084640"/>
            <a:ext cx="2519280" cy="576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igen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dere sagen was und w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668560"/>
            <a:ext cx="32403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rbesserung eigener Fähigkei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787120"/>
            <a:ext cx="518472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enn es sich zur ändernden Umgebung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. Über lerhfähig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Eigenschaften lernfähiger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Anschauungsprobl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as ausgeblieben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sch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Zusammenfa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er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ybernetik: interdisziplinäre Forsch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k, Biologie, Technik, Gesellsch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ichtigste Ergebniss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der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stheorie (Signaltheori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ndiagramm (Phasenraum) Techn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9:07Z</dcterms:modified>
  <cp:revision>1621</cp:revision>
  <dc:subject/>
  <dc:title>J2EE-001-VargaGy</dc:title>
</cp:coreProperties>
</file>